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14EF-C1E5-4135-B9EC-3FD4B1D7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teachers go to this site and complete quiz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out on Chang—identify mismatches and ma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Blue Differentiated Instruction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out:  Beach ball/clipboard/microscope/puppy:  page 26-28 in Gr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30-31 in Blu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99F-96FE-4A7E-82F5-B337CB0E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5C6-44B5-41F2-9F2F-A503A75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70C-E0EA-48C7-84F6-C95FAB79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DA5-B025-4F4B-B355-ADDF412E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89F8-10D2-423D-A794-45E35AA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B28E-F6DF-4DEC-8BEB-2E36E1D1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A20F-DB90-4A6D-9EC4-7CD3F188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A19C-2E7C-4A72-9459-7C2DBC85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2331-FA68-43D3-92B3-E8DD0F5C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EF1B-2C27-4E58-BA66-E728F75D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193C-1C08-4CB0-9C6B-30A5E2B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F8B-5F56-478A-BB6E-50D0E65D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C2C0-23BD-4AA2-A54A-90FC831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7ADD-1245-4ACF-96F8-8ECF8176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EC71-2DBB-41C2-9B65-621584CE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3366-6099-4613-9D26-A348465D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3087-0004-49B1-AC04-0DA556D3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032-EEE4-4957-835A-29A529C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BE0-C465-4344-92AD-15A1C564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CCC-0932-44F3-9876-6C291CB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764-1C50-4FEE-B287-6F97F16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541-FA87-45C0-B925-0D70223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8E9-F494-4C7E-95D2-0575E50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6B9-A846-44F1-8472-746F29E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796-3237-4A02-9899-883E87B534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97D8-7667-471A-A602-6CB7146677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erghuis.co.nz/abiator/lsi/lsiframe.html" TargetMode="External"/><Relationship Id="rId2" Type="http://schemas.openxmlformats.org/officeDocument/2006/relationships/hyperlink" Target="http://www.berghuis.co.nz/abiator/lsi/lsiframe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Mufferaw"/>
              </a:rPr>
              <a:t> </a:t>
            </a:r>
            <a:r>
              <a:rPr b="0" lang="en-US" sz="4400" spc="-1" strike="noStrike">
                <a:solidFill>
                  <a:srgbClr val="ebd189"/>
                </a:solidFill>
                <a:latin typeface="Mufferaw"/>
              </a:rPr>
              <a:t>Creating and using Learning Profiles in the  Classroo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47560" y="4114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Enhancing Education Through Technology Gra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Pam Bl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October 20, 200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Why use learning profiles in the classroom?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Tapping into the routes  for learning  promotes </a:t>
            </a:r>
            <a:r>
              <a:rPr b="1" lang="en-US" sz="2800" spc="-1" strike="noStrike">
                <a:solidFill>
                  <a:srgbClr val="ff0000"/>
                </a:solidFill>
                <a:latin typeface="Mufferaw"/>
              </a:rPr>
              <a:t>efficient</a:t>
            </a:r>
            <a:r>
              <a:rPr b="1" lang="en-US" sz="28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Mufferaw"/>
              </a:rPr>
              <a:t>effective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 learning for stude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Helping students understand their modes of learning that work best for them ensures lifetime learn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Offering options allows each learner to find a good learning fit in the class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Tomlinson, 200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Mufferaw"/>
              </a:rPr>
              <a:t>Using Learning Profiles in the Classroom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ep I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Discover your own learning style and multiple intelligence strengths: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b97c01"/>
                </a:solidFill>
                <a:uFillTx/>
                <a:latin typeface="Mufferaw"/>
                <a:hlinkClick r:id="rId2"/>
              </a:rPr>
              <a:t>www.berghuis.co.nz/abiator/lsi/lsiframe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Take the Learning Styles Test I and I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Take the Multiple Intelligence Assess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Explore the information provided on your learning style and multiple intelligence strength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Mufferaw"/>
              </a:rPr>
              <a:t>Using Learning Profiles in the Classroom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ebd189"/>
                </a:solidFill>
                <a:latin typeface="Mufferaw"/>
              </a:rPr>
              <a:t>Step II: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12960" y="14986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1600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Gathering facts about the learners in your classroom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5146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362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Record Re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962520"/>
            <a:ext cx="739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Multiple Intelligences (Gregory &amp; Chapman, p. 28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495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Thinking Styles ( Gregory &amp; Chapman,p. 2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3429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Interest Inventories ( Gregory &amp; Chapman, p.2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8954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Learning Styles (Gregory  &amp; Chapman, p. 20-2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Rubric for knowing the learners  in  your classroom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676520"/>
            <a:ext cx="7467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1981080"/>
          <a:ext cx="7620120" cy="3884760"/>
        </p:xfrm>
        <a:graphic>
          <a:graphicData uri="http://schemas.openxmlformats.org/drawingml/2006/table">
            <a:tbl>
              <a:tblPr/>
              <a:tblGrid>
                <a:gridCol w="1604880"/>
                <a:gridCol w="1671840"/>
                <a:gridCol w="2097000"/>
                <a:gridCol w="2246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Non-us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Beginnin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Routin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Refin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No attempts made  to Identify the uniqueness of learner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tudents’ learning styles and multiple intelligences are explor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Provides a variety of assessment and instructional practices to routinely respect student learning sty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Through reflection and conferences with students, builds on and sets goals with students that consider the student’s uniqueness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189"/>
                </a:solidFill>
                <a:latin typeface="Mufferaw"/>
              </a:rPr>
              <a:t>Using Learning Profiles in the Classroom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Step III:</a:t>
            </a:r>
            <a:br>
              <a:rPr sz="3200"/>
            </a:b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36232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ufferaw"/>
              </a:rPr>
              <a:t>Begin by remembe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ufferaw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Mufferaw"/>
              </a:rPr>
              <a:t>Some, not all of your students share your learning style</a:t>
            </a: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1600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Mufferaw"/>
              </a:rPr>
              <a:t>Create learning profile friendly classro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657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380988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ufferaw"/>
              </a:rPr>
              <a:t>Continue by help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ufferaw"/>
              </a:rPr>
              <a:t>Students explore and reflect on their own learning pro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105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4100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ufferaw"/>
              </a:rPr>
              <a:t>Implement by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ufferaw"/>
              </a:rPr>
              <a:t>Retrofitting for Individuals or Differentiating for the whole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ETROFITTING 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Mufferaw"/>
              </a:rPr>
              <a:t>Match and Mismatch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Mufferaw"/>
              </a:rPr>
              <a:t>Student vs. Cla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981080"/>
            <a:ext cx="7010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Realize a process is not working and remodel for a studen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Gather facts about the lear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Gather facts about the class/less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Content Dema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Process Dema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Product Dema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Identify mismatch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Brainstorm solution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Implement Strategies that Support Learning Differences for all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ufferaw"/>
              </a:rPr>
              <a:t>1.  </a:t>
            </a:r>
            <a:r>
              <a:rPr b="1" lang="en-US" sz="2800" spc="-1" strike="noStrike">
                <a:solidFill>
                  <a:srgbClr val="fcab40"/>
                </a:solidFill>
                <a:latin typeface="Mufferaw"/>
              </a:rPr>
              <a:t>Vary the presentation of content</a:t>
            </a:r>
            <a:r>
              <a:rPr b="1" lang="en-US" sz="2800" spc="-1" strike="noStrike">
                <a:solidFill>
                  <a:srgbClr val="eaeaea"/>
                </a:solidFill>
                <a:latin typeface="Mufferaw"/>
              </a:rPr>
              <a:t>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audit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vis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kinesthet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tac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Whole-to-par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352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Part-to-who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733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cab40"/>
              </a:buClr>
              <a:buFont typeface="Muffera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Mufferaw"/>
              </a:rPr>
              <a:t>Vary student mode of expression and     teacher assessment</a:t>
            </a:r>
            <a:r>
              <a:rPr b="0" lang="en-US" sz="2800" spc="-1" strike="noStrike">
                <a:solidFill>
                  <a:srgbClr val="fcab40"/>
                </a:solidFill>
                <a:latin typeface="Mufferaw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Write a po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648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onduct an invent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reate a power po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Dramatize or act o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onduct an inter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00200" y="685800"/>
            <a:ext cx="66294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Push me!  See how far I g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Work me ‘til I drop.  Then pick me u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Open a door, and then make me run to it befo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t clos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Teach me so that I mgith learn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Then let me enter the tunnel of experienc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alo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And when, near the end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 turn to see you beginning another’s journe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 shall smi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Kathleen, age 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The Whole Learner: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 Learning Profil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Mufferaw"/>
              </a:rPr>
              <a:t>Learning Profiles detail the way individuals learn be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8862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Mufferaw"/>
              </a:rPr>
              <a:t>Categories of Learning Profile Factors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Learning Style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ntelligence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ulture-Influence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Gender-Based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4000"/>
            </a:br>
            <a:r>
              <a:rPr b="0" i="1" lang="en-US" sz="3600" spc="-1" strike="noStrike">
                <a:solidFill>
                  <a:srgbClr val="ebd189"/>
                </a:solidFill>
                <a:latin typeface="Mufferaw"/>
              </a:rPr>
              <a:t>Learning Styl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19320" y="1828800"/>
          <a:ext cx="7391160" cy="43434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Learning Style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Environmental /personal factor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Process oriented-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eeks to see how a person processes information through the senses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Environmental Factors—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quiet/noise    warm/cool  still/mobile  flexible/fixed  busy/spar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Identifies individual’s learning strengt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Learning Styles and Strength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657600"/>
            <a:ext cx="1447920" cy="762120"/>
          </a:xfrm>
          <a:prstGeom prst="flowChartPreparation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54"/>
                </a:solidFill>
                <a:latin typeface="Mufferaw"/>
              </a:rPr>
              <a:t>Learn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54"/>
                </a:solidFill>
                <a:latin typeface="Mufferaw"/>
              </a:rPr>
              <a:t>Sty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666880"/>
            <a:ext cx="990720" cy="838440"/>
          </a:xfrm>
          <a:prstGeom prst="flowChartOffpageConnector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666880"/>
            <a:ext cx="99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Auditor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4876560" y="6095520"/>
            <a:ext cx="108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324480" y="3581280"/>
            <a:ext cx="1447920" cy="838440"/>
          </a:xfrm>
          <a:prstGeom prst="flowChart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581280"/>
            <a:ext cx="1600200" cy="7621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800600"/>
            <a:ext cx="1905120" cy="8380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952880"/>
            <a:ext cx="1600200" cy="6858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8" idx="2"/>
            <a:endCxn id="117" idx="0"/>
          </p:cNvCxnSpPr>
          <p:nvPr/>
        </p:nvCxnSpPr>
        <p:spPr>
          <a:xfrm>
            <a:off x="4609800" y="3504960"/>
            <a:ext cx="1080" cy="15300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6" name=""/>
          <p:cNvCxnSpPr>
            <a:stCxn id="117" idx="2"/>
            <a:endCxn id="124" idx="0"/>
          </p:cNvCxnSpPr>
          <p:nvPr/>
        </p:nvCxnSpPr>
        <p:spPr>
          <a:xfrm>
            <a:off x="4610160" y="4419360"/>
            <a:ext cx="1753200" cy="53388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7" name=""/>
          <p:cNvCxnSpPr>
            <a:stCxn id="117" idx="1"/>
            <a:endCxn id="122" idx="3"/>
          </p:cNvCxnSpPr>
          <p:nvPr/>
        </p:nvCxnSpPr>
        <p:spPr>
          <a:xfrm flipH="1" flipV="1">
            <a:off x="3199680" y="3961800"/>
            <a:ext cx="68652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 flipH="1">
            <a:off x="2819160" y="4419720"/>
            <a:ext cx="1410480" cy="38160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9" name=""/>
          <p:cNvCxnSpPr>
            <a:stCxn id="121" idx="1"/>
            <a:endCxn id="117" idx="3"/>
          </p:cNvCxnSpPr>
          <p:nvPr/>
        </p:nvCxnSpPr>
        <p:spPr>
          <a:xfrm flipH="1">
            <a:off x="5333400" y="4000320"/>
            <a:ext cx="991080" cy="3852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1752480" y="37339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Tactile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809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Visual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9528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Tactile/Kinesthetic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029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Kinesthetic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3600"/>
            </a:br>
            <a:r>
              <a:rPr b="0" i="1" lang="en-US" sz="3200" spc="-1" strike="noStrike">
                <a:solidFill>
                  <a:srgbClr val="ebd189"/>
                </a:solidFill>
                <a:latin typeface="Mufferaw"/>
              </a:rPr>
              <a:t> Multiple Intelligences Strength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539720"/>
          <a:ext cx="7772400" cy="5317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Brain-based predispositions to lear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Cognitive Mode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– 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eeks to describe how a person uses their intelligence to solve problems and create produc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7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Verbal/Linguist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Logical/mathematic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Interpers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Musical/rhythm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Intrapers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Visual/spati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Bodily/kinesthet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Naturalist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Gardner, 1993)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Analytic  -- schoolhouse smar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Practical  --seeing how and why things work in the worl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Creative  -- problem-solving/innovative                                               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ternberg, 1985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Multiple Intelligences: </a:t>
            </a:r>
            <a:br>
              <a:rPr sz="3200"/>
            </a:b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1" i="1" lang="en-US" sz="3200" spc="-1" strike="noStrike">
                <a:solidFill>
                  <a:srgbClr val="ebd189"/>
                </a:solidFill>
                <a:latin typeface="Mufferaw"/>
              </a:rPr>
              <a:t>How are you smart?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209680"/>
            <a:ext cx="4724280" cy="327672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209680"/>
            <a:ext cx="0" cy="3353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3886200"/>
            <a:ext cx="4724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76720" y="2666880"/>
            <a:ext cx="3200400" cy="2438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666880"/>
            <a:ext cx="3276360" cy="2362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289548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Wo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581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Logic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886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Picture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267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Body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42670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Music 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9718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elf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276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People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3886200"/>
            <a:ext cx="685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Nat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95480" y="31240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866520" cy="669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159080" y="4724280"/>
            <a:ext cx="59076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914400" cy="58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248520" y="320040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029200" y="2352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962520" y="2362320"/>
            <a:ext cx="636480" cy="64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3600"/>
            </a:br>
            <a:r>
              <a:rPr b="0" i="1" lang="en-US" sz="3200" spc="-1" strike="noStrike">
                <a:solidFill>
                  <a:srgbClr val="ebd189"/>
                </a:solidFill>
                <a:latin typeface="Mufferaw"/>
              </a:rPr>
              <a:t> Culture-Influenced Preference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1676520"/>
          <a:ext cx="7772400" cy="4452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ome learning patterns differ from one culture to another, but there is also a great variance within culture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me:  fixed or flexib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motions:  reserved or effusi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cts:  personal and connected or discrete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d impersonal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tting:  With a group or individua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3600"/>
            </a:br>
            <a:r>
              <a:rPr b="0" i="1" lang="en-US" sz="3200" spc="-1" strike="noStrike">
                <a:solidFill>
                  <a:srgbClr val="ebd189"/>
                </a:solidFill>
                <a:latin typeface="Mufferaw"/>
              </a:rPr>
              <a:t> Gender-Influenced Preference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676520"/>
          <a:ext cx="7772400" cy="2743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l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mal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mpetiti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ss motor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operati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erbal strength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Using Learning Profiles</a:t>
            </a:r>
            <a:br>
              <a:rPr sz="4000"/>
            </a:b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 in the</a:t>
            </a:r>
            <a:br>
              <a:rPr sz="4000"/>
            </a:b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 Classroom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6:35:11Z</dcterms:created>
  <dc:creator>pblack</dc:creator>
  <dc:description/>
  <dc:language>en-US</dc:language>
  <cp:lastModifiedBy> Roger Black</cp:lastModifiedBy>
  <dcterms:modified xsi:type="dcterms:W3CDTF">2009-10-20T03:53:21Z</dcterms:modified>
  <cp:revision>47</cp:revision>
  <dc:subject/>
  <dc:title> Creating and using learning profiles in the  classroom</dc:title>
</cp:coreProperties>
</file>